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04E-F32E-4503-A9B1-7C11BFA2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F5C-09C2-4315-B58C-74D2B767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FE9-0B7A-4F97-A9F9-0ECF6B02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129-C672-43A9-A911-FDC9764E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A15-C094-4E3D-89D6-C493EE4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867D-EF3B-4CA5-8778-B890F9B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9266-F50E-4C11-8076-A9CCA99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9673-B7A1-428B-9ACC-A633FFB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6DF-F6DF-49E6-92BA-CF1F0F9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433A-9106-4E26-A253-CDE9458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D4F-B741-4FD5-972A-41DCE73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0D6-AAA8-4F22-81EF-A21D8DB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86F5-0763-4408-B979-577CFF6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653-25C7-47CB-9601-CF0344A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6FD-B87F-4220-9FCE-4298AC2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01DA-4F68-441C-A027-7D845E46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5DDC-61C0-4AF3-B57F-404D8A20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B2458-7B1D-4244-973B-B881B875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6C9AB-9F93-473D-AD09-89442ED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A8736-FB72-4482-ABE4-5F9DC176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6F16A-1822-4249-B197-C82F8E5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DBC7D-7A1E-4E94-A3F9-584202D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A24-CA12-47F8-9CAD-57B909A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570D8-9DE9-473F-85E8-D3E9E9F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A1202-834F-4122-A8C3-C21EF6E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A2D69-2039-42FF-9166-896A5090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16B02-7AF1-40D4-AD00-F3DAF56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A1682-61EE-4F8D-9CE2-7D5AFFF0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605B9-B7E7-4BD4-8DA7-9EBA6A49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98418-A06C-4B34-B639-790B1A17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19BDD-B83A-47FD-A703-6561F32B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30EFA-51C4-4426-B4BB-55D1B0D3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E0FE2-872F-477F-A1CA-E23F19C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8A7-19CD-4442-BB82-21D634F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0BA14-B7ED-452D-9BFF-E7C420C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30607-0938-4C9C-BCFE-B1C40A8C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EBDCC-8DBD-4207-B50D-4AC4F392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77A44-F1F6-47E4-8684-DE0D1261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B1786-19AE-4A52-8900-C4BA3E2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3C493-0A0E-4946-BA77-C57D7F4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9AEA0-6F3F-468C-985C-C724E01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10A9-0E00-49CC-8476-0397D9A8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DCCCE-7D40-4750-A0C0-165BDCCE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9E5EC-4D36-4861-8620-1609CAB7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92D-32B0-403B-B5FF-FDF1C7C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C5AEF-79FF-4576-B78C-C7D77E4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F1E0B-8731-4AB9-AC3D-613D9032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F0F61-431E-4D9B-B699-62F5F3B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3EF31-12BD-44B6-B2D5-91DF470F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EDF9B-0DFA-4EA7-9A9B-CEF2EBF3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75AB2-FB3A-491B-91BA-19367C5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96221-90C6-4175-A4BB-23F2331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9D842-129F-4952-ACC8-841CC68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B58FB-5B44-4383-B56A-EFE67D0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45DC9-DD61-4F85-922D-C1C22C94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8DE-AF87-4614-B907-03A06E9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6C5A7-ED7F-4EAB-8C7C-DC05DA4F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F229-20F6-4711-B0B8-B996B2D8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0C519-0980-47BE-A5F2-69CD0AEA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929E-4A98-4B7C-B9CA-25BB43AD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96C9-1502-4159-B690-7BFBC988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4610-9CB1-4A6E-AE9C-10F6FFD4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3508-D98C-44FF-8D2E-7A2DC9A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BA87-59D3-4730-838C-C084D09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ED41-3891-40D5-AC94-CFA1519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6C06-B56B-4798-9562-DE204BD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B31-2AF6-427A-A0D6-2D64827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05F0-78EE-4051-86A1-B804035D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2CAC-095C-42D4-814B-2FDC3B46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3B707-1D95-4278-88A3-54E50920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CD297-03D6-4C6E-A60A-94EED506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B8CB5-B93E-4810-8EFD-14A0670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F7B9C-DDAD-4180-9F9C-536047A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B70CA-9339-494F-9F81-9FB7DB65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BF52D-C515-44C9-A672-2812AC7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E4466-7130-45A0-993A-BD53581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575A5-7BC0-4D8D-80D5-6D840766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421-9B0C-466F-AA80-5609E58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3C899-5990-4DA8-8BD5-E19CFC3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BA8E8-E63B-44F4-9486-87422558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006A0-504A-474A-9399-27796DE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19AE9-576F-411E-B55E-EB5A99BB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E054D-4283-4287-A5E2-36DA3702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066DA-18B7-41F9-BED7-F19316A1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364FD-8B89-468E-970F-FFB7386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FD08-2832-4D3D-93FD-43F2CFD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73B83-ED1D-4F4B-927B-D8314E46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ED0C-BED5-49E7-AA45-C6523DD6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B79-319E-4B88-B5EB-9E3C155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429C-5021-48EC-85FE-4237092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8149B-A275-4C77-A387-FCAA144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E3104-CEF1-4AEF-8644-E68DE89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C363-FA93-4329-A98B-272415D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0C20-F96C-4D16-93FD-F737B3C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F9EE-2B35-41B1-A4F4-73A85437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0DEC-942B-4311-97DF-3379505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EBE-9F80-4266-84F1-56A628A40825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309-B883-4003-A7C8-EE0F222D7B47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F1D-62BD-448E-B511-6D3B602C1254}" type="slidenum">
              <a:rPr b="1" lang="ko-K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8D02-9AE1-44B5-8819-F4D647B91B41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ED9-952B-42E8-9157-30DE3BD75AD5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95C-9B4E-4A7A-A0D2-E2BD3C48B0C3}" type="slidenum">
              <a:rPr b="1" lang="ko-KR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1EF9-5598-4843-BDA5-26D537A99823}" type="slidenum">
              <a:rPr b="1" lang="ko-K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FEC1-1A85-45B8-AE61-8EAD9396C6CE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911320" cy="3879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724200" cy="2482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6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학년도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만덕중학교  박지은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부제목 3"/>
          <p:cNvSpPr/>
          <p:nvPr/>
        </p:nvSpPr>
        <p:spPr>
          <a:xfrm>
            <a:off x="108000" y="6094440"/>
            <a:ext cx="223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4</a:t>
            </a:r>
            <a:r>
              <a:rPr b="0" lang="ko-KR" sz="2800" spc="-1" strike="noStrike">
                <a:solidFill>
                  <a:srgbClr val="ffffff"/>
                </a:solidFill>
                <a:latin typeface="Tw Cen MT"/>
              </a:rPr>
              <a:t>과 위치 말하기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7440" cy="14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ebddc3"/>
                </a:solidFill>
                <a:latin typeface="HY강B"/>
                <a:ea typeface="HY강B"/>
              </a:rPr>
              <a:t>위치 묻고 답하기</a:t>
            </a:r>
            <a:endParaRPr b="0" lang="en-US" sz="72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46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2700360" y="549360"/>
          <a:ext cx="3666960" cy="57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366696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2627280" y="692280"/>
          <a:ext cx="3578400" cy="55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692280"/>
                    <a:ext cx="357840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527200" y="620640"/>
          <a:ext cx="380052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620640"/>
                    <a:ext cx="380052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2484360" y="476280"/>
          <a:ext cx="379404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6280"/>
                    <a:ext cx="3794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590920" y="380880"/>
          <a:ext cx="361296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80880"/>
                    <a:ext cx="361296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019160" y="878040"/>
            <a:ext cx="69375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234800" cy="1377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1235160" cy="1378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708360" y="5516640"/>
            <a:ext cx="1692360" cy="898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1235160" cy="1378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209520"/>
            <a:ext cx="446400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759200" y="119700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54040" y="4094280"/>
            <a:ext cx="2470320" cy="1457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79280" y="209520"/>
            <a:ext cx="43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470320" cy="1457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189000"/>
            <a:ext cx="9144000" cy="6589800"/>
            <a:chOff x="0" y="189000"/>
            <a:chExt cx="9144000" cy="658980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374920" y="5483160"/>
              <a:ext cx="884160" cy="1295640"/>
            </a:xfrm>
            <a:custGeom>
              <a:avLst/>
              <a:gdLst/>
              <a:ahLst/>
              <a:rect l="l" t="t" r="r" b="b"/>
              <a:pathLst>
                <a:path w="2457" h="3598">
                  <a:moveTo>
                    <a:pt x="7293" y="15577"/>
                  </a:moveTo>
                  <a:cubicBezTo>
                    <a:pt x="7261" y="15609"/>
                    <a:pt x="7240" y="15607"/>
                    <a:pt x="7218" y="15627"/>
                  </a:cubicBezTo>
                  <a:cubicBezTo>
                    <a:pt x="7205" y="15639"/>
                    <a:pt x="7151" y="15691"/>
                    <a:pt x="7144" y="15701"/>
                  </a:cubicBezTo>
                  <a:cubicBezTo>
                    <a:pt x="7125" y="15727"/>
                    <a:pt x="7108" y="15755"/>
                    <a:pt x="7094" y="15776"/>
                  </a:cubicBezTo>
                  <a:cubicBezTo>
                    <a:pt x="7074" y="15806"/>
                    <a:pt x="7055" y="15815"/>
                    <a:pt x="7045" y="15850"/>
                  </a:cubicBezTo>
                  <a:cubicBezTo>
                    <a:pt x="7024" y="15927"/>
                    <a:pt x="7024" y="16165"/>
                    <a:pt x="7069" y="16222"/>
                  </a:cubicBezTo>
                  <a:cubicBezTo>
                    <a:pt x="7089" y="16247"/>
                    <a:pt x="7126" y="16249"/>
                    <a:pt x="7144" y="16272"/>
                  </a:cubicBezTo>
                  <a:cubicBezTo>
                    <a:pt x="7178" y="16316"/>
                    <a:pt x="7170" y="16297"/>
                    <a:pt x="7218" y="16321"/>
                  </a:cubicBezTo>
                  <a:cubicBezTo>
                    <a:pt x="7235" y="16330"/>
                    <a:pt x="7270" y="16359"/>
                    <a:pt x="7293" y="16371"/>
                  </a:cubicBezTo>
                  <a:cubicBezTo>
                    <a:pt x="7315" y="16383"/>
                    <a:pt x="7360" y="16443"/>
                    <a:pt x="7367" y="16446"/>
                  </a:cubicBezTo>
                  <a:cubicBezTo>
                    <a:pt x="7462" y="16493"/>
                    <a:pt x="7705" y="16446"/>
                    <a:pt x="7813" y="16446"/>
                  </a:cubicBezTo>
                  <a:cubicBezTo>
                    <a:pt x="7819" y="16402"/>
                    <a:pt x="7817" y="16397"/>
                    <a:pt x="7838" y="16371"/>
                  </a:cubicBezTo>
                  <a:cubicBezTo>
                    <a:pt x="7854" y="16351"/>
                    <a:pt x="7870" y="16319"/>
                    <a:pt x="7888" y="16297"/>
                  </a:cubicBezTo>
                  <a:cubicBezTo>
                    <a:pt x="7908" y="16273"/>
                    <a:pt x="7906" y="16255"/>
                    <a:pt x="7938" y="16222"/>
                  </a:cubicBezTo>
                  <a:cubicBezTo>
                    <a:pt x="7954" y="16205"/>
                    <a:pt x="7968" y="16174"/>
                    <a:pt x="7987" y="16148"/>
                  </a:cubicBezTo>
                  <a:cubicBezTo>
                    <a:pt x="8005" y="16124"/>
                    <a:pt x="8043" y="16119"/>
                    <a:pt x="8062" y="16098"/>
                  </a:cubicBezTo>
                  <a:cubicBezTo>
                    <a:pt x="8092" y="16065"/>
                    <a:pt x="8069" y="16011"/>
                    <a:pt x="8086" y="15974"/>
                  </a:cubicBezTo>
                  <a:cubicBezTo>
                    <a:pt x="8106" y="15931"/>
                    <a:pt x="8108" y="15926"/>
                    <a:pt x="8111" y="15875"/>
                  </a:cubicBezTo>
                  <a:cubicBezTo>
                    <a:pt x="8113" y="15832"/>
                    <a:pt x="8104" y="15824"/>
                    <a:pt x="8086" y="15801"/>
                  </a:cubicBezTo>
                  <a:cubicBezTo>
                    <a:pt x="8067" y="15777"/>
                    <a:pt x="8057" y="15772"/>
                    <a:pt x="8037" y="15751"/>
                  </a:cubicBezTo>
                  <a:cubicBezTo>
                    <a:pt x="8013" y="15727"/>
                    <a:pt x="8029" y="15712"/>
                    <a:pt x="8012" y="15677"/>
                  </a:cubicBezTo>
                  <a:cubicBezTo>
                    <a:pt x="8006" y="15664"/>
                    <a:pt x="7974" y="15617"/>
                    <a:pt x="7962" y="15602"/>
                  </a:cubicBezTo>
                  <a:cubicBezTo>
                    <a:pt x="7940" y="15573"/>
                    <a:pt x="7944" y="15546"/>
                    <a:pt x="7913" y="15528"/>
                  </a:cubicBezTo>
                  <a:cubicBezTo>
                    <a:pt x="7813" y="15470"/>
                    <a:pt x="7480" y="15528"/>
                    <a:pt x="7367" y="15528"/>
                  </a:cubicBezTo>
                </a:path>
                <a:path w="2457" h="3598">
                  <a:moveTo>
                    <a:pt x="7441" y="15875"/>
                  </a:moveTo>
                  <a:lnTo>
                    <a:pt x="7441" y="15875"/>
                  </a:lnTo>
                </a:path>
                <a:path w="2457" h="3598">
                  <a:moveTo>
                    <a:pt x="7739" y="15875"/>
                  </a:moveTo>
                  <a:lnTo>
                    <a:pt x="7739" y="15875"/>
                  </a:lnTo>
                </a:path>
                <a:path w="2457" h="3598">
                  <a:moveTo>
                    <a:pt x="7516" y="16148"/>
                  </a:moveTo>
                  <a:cubicBezTo>
                    <a:pt x="7561" y="16148"/>
                    <a:pt x="7574" y="16168"/>
                    <a:pt x="7615" y="16173"/>
                  </a:cubicBezTo>
                  <a:cubicBezTo>
                    <a:pt x="7639" y="16176"/>
                    <a:pt x="7665" y="16173"/>
                    <a:pt x="7689" y="16173"/>
                  </a:cubicBezTo>
                  <a:cubicBezTo>
                    <a:pt x="7702" y="16135"/>
                    <a:pt x="7719" y="16148"/>
                    <a:pt x="7764" y="16148"/>
                  </a:cubicBezTo>
                </a:path>
                <a:path w="2457" h="3598">
                  <a:moveTo>
                    <a:pt x="7441" y="16495"/>
                  </a:moveTo>
                  <a:cubicBezTo>
                    <a:pt x="7441" y="16750"/>
                    <a:pt x="7452" y="17024"/>
                    <a:pt x="7417" y="17264"/>
                  </a:cubicBezTo>
                  <a:cubicBezTo>
                    <a:pt x="7396" y="17406"/>
                    <a:pt x="7417" y="17567"/>
                    <a:pt x="7417" y="17711"/>
                  </a:cubicBezTo>
                  <a:cubicBezTo>
                    <a:pt x="7475" y="17711"/>
                    <a:pt x="7520" y="17728"/>
                    <a:pt x="7565" y="17735"/>
                  </a:cubicBezTo>
                  <a:cubicBezTo>
                    <a:pt x="7791" y="17771"/>
                    <a:pt x="8055" y="17735"/>
                    <a:pt x="8285" y="17735"/>
                  </a:cubicBezTo>
                  <a:cubicBezTo>
                    <a:pt x="8285" y="17637"/>
                    <a:pt x="8277" y="17547"/>
                    <a:pt x="8260" y="17462"/>
                  </a:cubicBezTo>
                  <a:cubicBezTo>
                    <a:pt x="8250" y="17413"/>
                    <a:pt x="8268" y="17405"/>
                    <a:pt x="8235" y="17363"/>
                  </a:cubicBezTo>
                  <a:cubicBezTo>
                    <a:pt x="8214" y="17337"/>
                    <a:pt x="8213" y="17343"/>
                    <a:pt x="8210" y="17289"/>
                  </a:cubicBezTo>
                  <a:cubicBezTo>
                    <a:pt x="8207" y="17246"/>
                    <a:pt x="8192" y="17229"/>
                    <a:pt x="8186" y="17190"/>
                  </a:cubicBezTo>
                  <a:cubicBezTo>
                    <a:pt x="8181" y="17156"/>
                    <a:pt x="8161" y="17092"/>
                    <a:pt x="8161" y="17090"/>
                  </a:cubicBezTo>
                  <a:cubicBezTo>
                    <a:pt x="8153" y="17049"/>
                    <a:pt x="8144" y="17032"/>
                    <a:pt x="8136" y="16991"/>
                  </a:cubicBezTo>
                  <a:cubicBezTo>
                    <a:pt x="8123" y="16925"/>
                    <a:pt x="8155" y="16872"/>
                    <a:pt x="8111" y="16818"/>
                  </a:cubicBezTo>
                  <a:cubicBezTo>
                    <a:pt x="8085" y="16786"/>
                    <a:pt x="8082" y="16747"/>
                    <a:pt x="8062" y="16718"/>
                  </a:cubicBezTo>
                  <a:cubicBezTo>
                    <a:pt x="8043" y="16690"/>
                    <a:pt x="8040" y="16690"/>
                    <a:pt x="8037" y="16644"/>
                  </a:cubicBezTo>
                  <a:cubicBezTo>
                    <a:pt x="8034" y="16590"/>
                    <a:pt x="8020" y="16609"/>
                    <a:pt x="8012" y="16570"/>
                  </a:cubicBezTo>
                  <a:cubicBezTo>
                    <a:pt x="8004" y="16531"/>
                    <a:pt x="8003" y="16505"/>
                    <a:pt x="7987" y="16470"/>
                  </a:cubicBezTo>
                  <a:cubicBezTo>
                    <a:pt x="7971" y="16434"/>
                    <a:pt x="7959" y="16406"/>
                    <a:pt x="7938" y="16371"/>
                  </a:cubicBezTo>
                  <a:cubicBezTo>
                    <a:pt x="7916" y="16327"/>
                    <a:pt x="7913" y="16316"/>
                    <a:pt x="7888" y="16297"/>
                  </a:cubicBezTo>
                </a:path>
                <a:path w="2457" h="3598">
                  <a:moveTo>
                    <a:pt x="7441" y="16545"/>
                  </a:moveTo>
                  <a:cubicBezTo>
                    <a:pt x="7417" y="16545"/>
                    <a:pt x="7408" y="16545"/>
                    <a:pt x="7392" y="16545"/>
                  </a:cubicBezTo>
                  <a:cubicBezTo>
                    <a:pt x="7386" y="16563"/>
                    <a:pt x="7348" y="16605"/>
                    <a:pt x="7317" y="16619"/>
                  </a:cubicBezTo>
                  <a:cubicBezTo>
                    <a:pt x="7309" y="16619"/>
                    <a:pt x="7301" y="16619"/>
                    <a:pt x="7293" y="16619"/>
                  </a:cubicBezTo>
                  <a:cubicBezTo>
                    <a:pt x="7293" y="16662"/>
                    <a:pt x="7303" y="16657"/>
                    <a:pt x="7268" y="16669"/>
                  </a:cubicBezTo>
                  <a:cubicBezTo>
                    <a:pt x="7256" y="16704"/>
                    <a:pt x="7261" y="16694"/>
                    <a:pt x="7218" y="16694"/>
                  </a:cubicBezTo>
                  <a:cubicBezTo>
                    <a:pt x="7203" y="16752"/>
                    <a:pt x="7167" y="16722"/>
                    <a:pt x="7144" y="16768"/>
                  </a:cubicBezTo>
                  <a:cubicBezTo>
                    <a:pt x="7133" y="16790"/>
                    <a:pt x="7125" y="16817"/>
                    <a:pt x="7119" y="16842"/>
                  </a:cubicBezTo>
                  <a:cubicBezTo>
                    <a:pt x="7079" y="16855"/>
                    <a:pt x="7109" y="16854"/>
                    <a:pt x="7069" y="16867"/>
                  </a:cubicBezTo>
                  <a:cubicBezTo>
                    <a:pt x="7059" y="16908"/>
                    <a:pt x="7060" y="16907"/>
                    <a:pt x="7020" y="16917"/>
                  </a:cubicBezTo>
                  <a:cubicBezTo>
                    <a:pt x="7010" y="16957"/>
                    <a:pt x="7011" y="16956"/>
                    <a:pt x="6970" y="16966"/>
                  </a:cubicBezTo>
                  <a:cubicBezTo>
                    <a:pt x="6961" y="17010"/>
                    <a:pt x="6945" y="17043"/>
                    <a:pt x="6945" y="17090"/>
                  </a:cubicBezTo>
                  <a:cubicBezTo>
                    <a:pt x="6903" y="17090"/>
                    <a:pt x="6886" y="17096"/>
                    <a:pt x="6871" y="17140"/>
                  </a:cubicBezTo>
                  <a:cubicBezTo>
                    <a:pt x="6871" y="17148"/>
                    <a:pt x="6871" y="17157"/>
                    <a:pt x="6871" y="17165"/>
                  </a:cubicBezTo>
                  <a:cubicBezTo>
                    <a:pt x="6842" y="17175"/>
                    <a:pt x="6826" y="17199"/>
                    <a:pt x="6821" y="17239"/>
                  </a:cubicBezTo>
                  <a:cubicBezTo>
                    <a:pt x="6816" y="17282"/>
                    <a:pt x="6809" y="17249"/>
                    <a:pt x="6796" y="17289"/>
                  </a:cubicBezTo>
                </a:path>
                <a:path w="2457" h="3598">
                  <a:moveTo>
                    <a:pt x="7987" y="16421"/>
                  </a:moveTo>
                  <a:cubicBezTo>
                    <a:pt x="8042" y="16421"/>
                    <a:pt x="8058" y="16433"/>
                    <a:pt x="8111" y="16446"/>
                  </a:cubicBezTo>
                  <a:cubicBezTo>
                    <a:pt x="8157" y="16458"/>
                    <a:pt x="8191" y="16502"/>
                    <a:pt x="8235" y="16520"/>
                  </a:cubicBezTo>
                  <a:cubicBezTo>
                    <a:pt x="8261" y="16530"/>
                    <a:pt x="8282" y="16538"/>
                    <a:pt x="8310" y="16545"/>
                  </a:cubicBezTo>
                  <a:cubicBezTo>
                    <a:pt x="8321" y="16580"/>
                    <a:pt x="8317" y="16570"/>
                    <a:pt x="8359" y="16570"/>
                  </a:cubicBezTo>
                  <a:cubicBezTo>
                    <a:pt x="8371" y="16604"/>
                    <a:pt x="8397" y="16597"/>
                    <a:pt x="8409" y="16644"/>
                  </a:cubicBezTo>
                  <a:cubicBezTo>
                    <a:pt x="8451" y="16644"/>
                    <a:pt x="8447" y="16634"/>
                    <a:pt x="8458" y="16669"/>
                  </a:cubicBezTo>
                  <a:cubicBezTo>
                    <a:pt x="8505" y="16681"/>
                    <a:pt x="8515" y="16724"/>
                    <a:pt x="8558" y="16743"/>
                  </a:cubicBezTo>
                  <a:cubicBezTo>
                    <a:pt x="8566" y="16743"/>
                    <a:pt x="8574" y="16743"/>
                    <a:pt x="8582" y="16743"/>
                  </a:cubicBezTo>
                  <a:cubicBezTo>
                    <a:pt x="8595" y="16783"/>
                    <a:pt x="8594" y="16753"/>
                    <a:pt x="8607" y="16793"/>
                  </a:cubicBezTo>
                  <a:cubicBezTo>
                    <a:pt x="8647" y="16806"/>
                    <a:pt x="8617" y="16805"/>
                    <a:pt x="8657" y="16818"/>
                  </a:cubicBezTo>
                  <a:cubicBezTo>
                    <a:pt x="8669" y="16852"/>
                    <a:pt x="8665" y="16842"/>
                    <a:pt x="8706" y="16842"/>
                  </a:cubicBezTo>
                  <a:cubicBezTo>
                    <a:pt x="8706" y="16867"/>
                    <a:pt x="8706" y="16892"/>
                    <a:pt x="8706" y="16917"/>
                  </a:cubicBezTo>
                  <a:cubicBezTo>
                    <a:pt x="8746" y="16930"/>
                    <a:pt x="8716" y="16929"/>
                    <a:pt x="8756" y="16942"/>
                  </a:cubicBezTo>
                  <a:cubicBezTo>
                    <a:pt x="8756" y="16984"/>
                    <a:pt x="8746" y="16979"/>
                    <a:pt x="8781" y="16991"/>
                  </a:cubicBezTo>
                  <a:cubicBezTo>
                    <a:pt x="8781" y="17032"/>
                    <a:pt x="8781" y="17074"/>
                    <a:pt x="8781" y="17115"/>
                  </a:cubicBezTo>
                </a:path>
                <a:path w="2457" h="3598">
                  <a:moveTo>
                    <a:pt x="7689" y="17835"/>
                  </a:moveTo>
                  <a:cubicBezTo>
                    <a:pt x="7689" y="18017"/>
                    <a:pt x="7689" y="18198"/>
                    <a:pt x="7689" y="18380"/>
                  </a:cubicBezTo>
                  <a:cubicBezTo>
                    <a:pt x="7653" y="18393"/>
                    <a:pt x="7665" y="18411"/>
                    <a:pt x="7665" y="18455"/>
                  </a:cubicBezTo>
                  <a:cubicBezTo>
                    <a:pt x="7665" y="18521"/>
                    <a:pt x="7665" y="18587"/>
                    <a:pt x="7665" y="18653"/>
                  </a:cubicBezTo>
                  <a:cubicBezTo>
                    <a:pt x="7626" y="18663"/>
                    <a:pt x="7610" y="18678"/>
                    <a:pt x="7565" y="18678"/>
                  </a:cubicBezTo>
                  <a:cubicBezTo>
                    <a:pt x="7491" y="18678"/>
                    <a:pt x="7416" y="18678"/>
                    <a:pt x="7342" y="18678"/>
                  </a:cubicBezTo>
                  <a:cubicBezTo>
                    <a:pt x="7329" y="18716"/>
                    <a:pt x="7313" y="18703"/>
                    <a:pt x="7268" y="18703"/>
                  </a:cubicBezTo>
                  <a:cubicBezTo>
                    <a:pt x="7260" y="18703"/>
                    <a:pt x="7251" y="18703"/>
                    <a:pt x="7243" y="18703"/>
                  </a:cubicBezTo>
                </a:path>
                <a:path w="2457" h="3598">
                  <a:moveTo>
                    <a:pt x="8111" y="17835"/>
                  </a:moveTo>
                  <a:cubicBezTo>
                    <a:pt x="8111" y="18099"/>
                    <a:pt x="8111" y="18364"/>
                    <a:pt x="8111" y="18628"/>
                  </a:cubicBezTo>
                  <a:cubicBezTo>
                    <a:pt x="8149" y="18641"/>
                    <a:pt x="8136" y="18658"/>
                    <a:pt x="8136" y="18703"/>
                  </a:cubicBezTo>
                  <a:cubicBezTo>
                    <a:pt x="8136" y="18711"/>
                    <a:pt x="8136" y="18720"/>
                    <a:pt x="8136" y="18728"/>
                  </a:cubicBezTo>
                  <a:cubicBezTo>
                    <a:pt x="8176" y="18738"/>
                    <a:pt x="8199" y="18765"/>
                    <a:pt x="8235" y="18777"/>
                  </a:cubicBezTo>
                  <a:cubicBezTo>
                    <a:pt x="8265" y="18787"/>
                    <a:pt x="8305" y="18799"/>
                    <a:pt x="8334" y="18802"/>
                  </a:cubicBezTo>
                  <a:cubicBezTo>
                    <a:pt x="8382" y="18807"/>
                    <a:pt x="8394" y="18813"/>
                    <a:pt x="8434" y="18827"/>
                  </a:cubicBezTo>
                  <a:cubicBezTo>
                    <a:pt x="8442" y="18827"/>
                    <a:pt x="8450" y="18827"/>
                    <a:pt x="8458" y="18827"/>
                  </a:cubicBezTo>
                </a:path>
                <a:path w="2457" h="3598">
                  <a:moveTo>
                    <a:pt x="7938" y="15503"/>
                  </a:moveTo>
                  <a:cubicBezTo>
                    <a:pt x="7962" y="15469"/>
                    <a:pt x="7952" y="15433"/>
                    <a:pt x="7987" y="15429"/>
                  </a:cubicBezTo>
                  <a:cubicBezTo>
                    <a:pt x="8028" y="15424"/>
                    <a:pt x="8006" y="15404"/>
                    <a:pt x="8062" y="15404"/>
                  </a:cubicBezTo>
                  <a:cubicBezTo>
                    <a:pt x="8119" y="15404"/>
                    <a:pt x="8140" y="15395"/>
                    <a:pt x="8186" y="15379"/>
                  </a:cubicBezTo>
                  <a:cubicBezTo>
                    <a:pt x="8205" y="15373"/>
                    <a:pt x="8240" y="15379"/>
                    <a:pt x="8260" y="15379"/>
                  </a:cubicBezTo>
                  <a:cubicBezTo>
                    <a:pt x="8260" y="15456"/>
                    <a:pt x="8257" y="15513"/>
                    <a:pt x="8235" y="15577"/>
                  </a:cubicBezTo>
                  <a:cubicBezTo>
                    <a:pt x="8216" y="15634"/>
                    <a:pt x="8188" y="15568"/>
                    <a:pt x="8161" y="15602"/>
                  </a:cubicBezTo>
                  <a:cubicBezTo>
                    <a:pt x="8147" y="15620"/>
                    <a:pt x="8122" y="15640"/>
                    <a:pt x="8086" y="15652"/>
                  </a:cubicBezTo>
                  <a:cubicBezTo>
                    <a:pt x="8062" y="15652"/>
                    <a:pt x="8053" y="15652"/>
                    <a:pt x="8037" y="15652"/>
                  </a:cubicBezTo>
                  <a:cubicBezTo>
                    <a:pt x="8021" y="15630"/>
                    <a:pt x="7991" y="15584"/>
                    <a:pt x="7987" y="15577"/>
                  </a:cubicBezTo>
                  <a:cubicBezTo>
                    <a:pt x="7975" y="15555"/>
                    <a:pt x="7945" y="15542"/>
                    <a:pt x="7938" y="15528"/>
                  </a:cubicBezTo>
                  <a:cubicBezTo>
                    <a:pt x="7926" y="15502"/>
                    <a:pt x="7896" y="15494"/>
                    <a:pt x="7888" y="15478"/>
                  </a:cubicBezTo>
                  <a:cubicBezTo>
                    <a:pt x="7875" y="15453"/>
                    <a:pt x="7865" y="15423"/>
                    <a:pt x="7863" y="15404"/>
                  </a:cubicBezTo>
                  <a:cubicBezTo>
                    <a:pt x="7858" y="15363"/>
                    <a:pt x="7838" y="15385"/>
                    <a:pt x="7838" y="15329"/>
                  </a:cubicBezTo>
                  <a:cubicBezTo>
                    <a:pt x="7838" y="15282"/>
                    <a:pt x="7782" y="15307"/>
                    <a:pt x="7764" y="15280"/>
                  </a:cubicBezTo>
                  <a:cubicBezTo>
                    <a:pt x="7764" y="15252"/>
                    <a:pt x="7762" y="15241"/>
                    <a:pt x="7739" y="15230"/>
                  </a:cubicBezTo>
                  <a:cubicBezTo>
                    <a:pt x="7716" y="15238"/>
                    <a:pt x="7692" y="15281"/>
                    <a:pt x="7689" y="15304"/>
                  </a:cubicBezTo>
                  <a:cubicBezTo>
                    <a:pt x="7683" y="15354"/>
                    <a:pt x="7669" y="15342"/>
                    <a:pt x="7665" y="15379"/>
                  </a:cubicBezTo>
                  <a:cubicBezTo>
                    <a:pt x="7658" y="15435"/>
                    <a:pt x="7665" y="15496"/>
                    <a:pt x="7665" y="15553"/>
                  </a:cubicBezTo>
                  <a:cubicBezTo>
                    <a:pt x="7748" y="15553"/>
                    <a:pt x="7830" y="15553"/>
                    <a:pt x="7913" y="15553"/>
                  </a:cubicBezTo>
                  <a:cubicBezTo>
                    <a:pt x="7869" y="15509"/>
                    <a:pt x="7850" y="15498"/>
                    <a:pt x="7813" y="15453"/>
                  </a:cubicBezTo>
                  <a:cubicBezTo>
                    <a:pt x="7767" y="15396"/>
                    <a:pt x="7798" y="15412"/>
                    <a:pt x="7764" y="15429"/>
                  </a:cubicBezTo>
                  <a:cubicBezTo>
                    <a:pt x="7730" y="15446"/>
                    <a:pt x="7744" y="15463"/>
                    <a:pt x="7714" y="15503"/>
                  </a:cubicBezTo>
                  <a:cubicBezTo>
                    <a:pt x="7797" y="15503"/>
                    <a:pt x="8167" y="15470"/>
                    <a:pt x="8186" y="15528"/>
                  </a:cubicBezTo>
                  <a:cubicBezTo>
                    <a:pt x="8180" y="15553"/>
                    <a:pt x="8147" y="15597"/>
                    <a:pt x="8136" y="15602"/>
                  </a:cubicBezTo>
                  <a:cubicBezTo>
                    <a:pt x="8111" y="15602"/>
                    <a:pt x="8103" y="15602"/>
                    <a:pt x="8111" y="15627"/>
                  </a:cubicBezTo>
                </a:path>
                <a:path w="2457" h="3598">
                  <a:moveTo>
                    <a:pt x="7615" y="16570"/>
                  </a:moveTo>
                  <a:cubicBezTo>
                    <a:pt x="7623" y="16570"/>
                    <a:pt x="7632" y="16570"/>
                    <a:pt x="7640" y="16570"/>
                  </a:cubicBezTo>
                  <a:cubicBezTo>
                    <a:pt x="7659" y="16608"/>
                    <a:pt x="7719" y="16623"/>
                    <a:pt x="7739" y="16669"/>
                  </a:cubicBezTo>
                  <a:cubicBezTo>
                    <a:pt x="7754" y="16702"/>
                    <a:pt x="7744" y="16694"/>
                    <a:pt x="7789" y="16694"/>
                  </a:cubicBezTo>
                </a:path>
                <a:path w="2457" h="3598">
                  <a:moveTo>
                    <a:pt x="7813" y="16520"/>
                  </a:moveTo>
                  <a:cubicBezTo>
                    <a:pt x="7813" y="16575"/>
                    <a:pt x="7794" y="16555"/>
                    <a:pt x="7789" y="16594"/>
                  </a:cubicBezTo>
                  <a:cubicBezTo>
                    <a:pt x="7786" y="16618"/>
                    <a:pt x="7789" y="16645"/>
                    <a:pt x="7789" y="16669"/>
                  </a:cubicBezTo>
                  <a:cubicBezTo>
                    <a:pt x="7789" y="16636"/>
                    <a:pt x="7789" y="16603"/>
                    <a:pt x="7789" y="16570"/>
                  </a:cubicBezTo>
                </a:path>
                <a:path w="2457" h="3598">
                  <a:moveTo>
                    <a:pt x="7739" y="16570"/>
                  </a:moveTo>
                  <a:lnTo>
                    <a:pt x="7739" y="16570"/>
                  </a:lnTo>
                </a:path>
                <a:path w="2457" h="3598">
                  <a:moveTo>
                    <a:pt x="7739" y="16718"/>
                  </a:moveTo>
                  <a:cubicBezTo>
                    <a:pt x="7739" y="16933"/>
                    <a:pt x="7739" y="17148"/>
                    <a:pt x="7739" y="17363"/>
                  </a:cubicBezTo>
                </a:path>
                <a:path w="2457" h="3598">
                  <a:moveTo>
                    <a:pt x="7764" y="16793"/>
                  </a:moveTo>
                  <a:cubicBezTo>
                    <a:pt x="7764" y="16967"/>
                    <a:pt x="7764" y="17140"/>
                    <a:pt x="7764" y="17314"/>
                  </a:cubicBezTo>
                  <a:cubicBezTo>
                    <a:pt x="7729" y="17325"/>
                    <a:pt x="7815" y="17337"/>
                    <a:pt x="7789" y="17363"/>
                  </a:cubicBezTo>
                  <a:cubicBezTo>
                    <a:pt x="7781" y="17363"/>
                    <a:pt x="7772" y="17363"/>
                    <a:pt x="7764" y="17363"/>
                  </a:cubicBezTo>
                </a:path>
                <a:path w="2457" h="3598">
                  <a:moveTo>
                    <a:pt x="6796" y="17289"/>
                  </a:moveTo>
                  <a:cubicBezTo>
                    <a:pt x="6730" y="17289"/>
                    <a:pt x="6664" y="17289"/>
                    <a:pt x="6598" y="17289"/>
                  </a:cubicBezTo>
                </a:path>
                <a:path w="2457" h="3598">
                  <a:moveTo>
                    <a:pt x="8830" y="17165"/>
                  </a:moveTo>
                  <a:cubicBezTo>
                    <a:pt x="8893" y="17165"/>
                    <a:pt x="8927" y="17173"/>
                    <a:pt x="8979" y="17190"/>
                  </a:cubicBezTo>
                  <a:cubicBezTo>
                    <a:pt x="8998" y="17196"/>
                    <a:pt x="9034" y="17190"/>
                    <a:pt x="9054" y="17190"/>
                  </a:cubicBez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2560" y="2189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ほん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2360" y="110952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え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720" y="4724280"/>
              <a:ext cx="215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ひろしくんのう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0360" y="52862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としょか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06920" y="119700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こうえ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43280" y="4292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ゆうびんきょ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3141720"/>
            <a:ext cx="2808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위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26920" y="1773360"/>
          <a:ext cx="302904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30290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321300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아래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52400" y="1773360"/>
          <a:ext cx="295596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773360"/>
                    <a:ext cx="295596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3068640"/>
            <a:ext cx="25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앞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26920" y="1773360"/>
          <a:ext cx="28767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28767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/>
          <p:nvPr/>
        </p:nvSpPr>
        <p:spPr>
          <a:xfrm>
            <a:off x="5003640" y="314172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뒤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71640" y="1773360"/>
          <a:ext cx="294948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494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2852640"/>
            <a:ext cx="4032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9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2924280"/>
            <a:ext cx="3311640" cy="1677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오른쪽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28292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2924280"/>
            <a:ext cx="3311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옆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とな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55640" y="1628640"/>
          <a:ext cx="3083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3083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19:47Z</dcterms:created>
  <dc:creator>Your User Name</dc:creator>
  <dc:description/>
  <dc:language>en-US</dc:language>
  <cp:lastModifiedBy>학교</cp:lastModifiedBy>
  <dcterms:modified xsi:type="dcterms:W3CDTF">2011-07-04T00:22:25Z</dcterms:modified>
  <cp:revision>29</cp:revision>
  <dc:subject/>
  <dc:title>日本の「住」</dc:title>
</cp:coreProperties>
</file>